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3DD-F13E-4DE2-8B20-47D697FA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6CB-FD36-4922-A505-AF8DFFF9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713-C70E-4CEF-8B52-25253529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82D-B4BA-443C-A4CF-0345495F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F1B-6FB3-4C8C-AE5E-70369525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FD6-82AD-4FA5-AB48-C54C2821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259-FFDC-4421-A757-ACA7ED4B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914-378E-4E69-999B-6DFAD60A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09B-8925-4A7A-92B0-2FBA4BCB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3BF-F4AE-40F3-B0A8-681173C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ED4-D963-4F7C-A571-01B232B8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2A4-EC90-4D62-AC6C-7E08B2F8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77EE-1CE3-4317-A63B-D17D5C74B9B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dvitec.edu.ar/contenido/skins/www_redvitec/download/instrumentos.doc#Introducci&#243;n" TargetMode="External"/><Relationship Id="rId3" Type="http://schemas.openxmlformats.org/officeDocument/2006/relationships/hyperlink" Target="http://www.redvitec.edu.ar/contenido/skins/www_redvitec/download/01_lineas_promocion.pdf" TargetMode="External"/><Relationship Id="rId4" Type="http://schemas.openxmlformats.org/officeDocument/2006/relationships/hyperlink" Target="http://www.redvitec.edu.ar/contenido/skins/www_redvitec/download/02_referencias.pdf" TargetMode="External"/><Relationship Id="rId5" Type="http://schemas.openxmlformats.org/officeDocument/2006/relationships/hyperlink" Target="http://www.redvitec.edu.ar/contenido/skins/www_redvitec/download/03_organismos.pdf" TargetMode="External"/><Relationship Id="rId6" Type="http://schemas.openxmlformats.org/officeDocument/2006/relationships/hyperlink" Target="http://www.redvitec.edu.ar/contenido/skins/www_redvitec/download/04_organismos_internac.pdf" TargetMode="External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4100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 de Vinculación Tecnológica de las Universidades 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5178600" cy="6264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20360" y="422100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. N. de La Mat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. N. de Entre 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U. N. de Sa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PARTICIPACIÓN EN DIFERENTES ÁMBITO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ociación Latinoamericana de Gestión Tecnológica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(ALT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 Iberomaricana de Centros de Apoyo a la Innovación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(IN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de Reconocimiento de Competencias Técnicas de Laboratorios Universitarios –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UNILAB – I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 de Oficinas de transferencia de resultados de investigación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RedOTR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ación de los Estados Iberoamericanos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(O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d Tecnológica Argentina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(R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nco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redic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nco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Ri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UNIVER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PARTICIPACIÓN EN ENCUENTROS REGIONALES DE VINCULACIÓN TECN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cuentro NOA: “La Vinculación Tecnológica en las Universidades Nacionales” Univ. Nac. de Juj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gundas Jornadas del Instituto Bals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cuentros RedVITEC “Su importancia, avances y Modelos de Gestión” en las Universidades  Nacionales de Catamarca y del Comah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minarios de Propiedad Industrial e Intelectual y cursos de capacitación en distintas temáticas en todas las regiones CP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1440" y="260280"/>
            <a:ext cx="61549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2592360" cy="46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19640" y="2347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141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2708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203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191628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628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2779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1197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22766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2421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2421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83520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1280" y="105264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67280" y="2924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2347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46560" y="1268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38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6200" y="2852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133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1844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46560" y="22766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56536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1989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155592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0560" y="184464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22766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22766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38560" y="465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987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27640" y="1197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41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981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0920" y="206064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20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8200" y="404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69228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Cata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920" y="98100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UN Centro Prov B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8560" y="126828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Comah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8560" y="1557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Córdo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000" y="184464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Cu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280" y="21337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Chilec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7040" y="24210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Entre Rí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360" y="270828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Form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0160" y="3009960"/>
            <a:ext cx="156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Gral. San Mart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8920" y="329868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Gral. Sar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000" y="358632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Juju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200" y="386064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La Mat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8920" y="414972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Lanú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8560" y="444960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La Pam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8920" y="472428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La Pl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920" y="502596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La Rio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530064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Lit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840" y="558972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Lomas de Zam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920" y="587700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Lujá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8920" y="33192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Mar del Pl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6206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M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38720" y="90792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Nord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8560" y="1197000"/>
            <a:ext cx="186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Noroeste – P. Bs.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27920" y="1484280"/>
            <a:ext cx="165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Patagonia Au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7480" y="17859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Patagonia 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20360" y="206064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Quil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62480" y="234792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Río Cua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59600" y="26370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Ros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29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Sa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1640" y="322596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San Ju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92000" y="35146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San L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91640" y="378936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Sgo. De Est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800" y="40892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92000" y="4363920"/>
            <a:ext cx="15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Tres de Febr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2720" y="465300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Tucumá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495468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 Villa Ma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71120" y="522936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niv. Tecnológica N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1480" y="558972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U Aeronáu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12960" y="55897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UN del 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877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ES Ejérc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1160" y="5878440"/>
            <a:ext cx="17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U Policía Federal A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57320" y="61786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UE Navales y Maríti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1500"/>
                            </p:stCondLst>
                            <p:childTnLst>
                              <p:par>
                                <p:cTn id="3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3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75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8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950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500"/>
                            </p:stCondLst>
                            <p:childTnLst>
                              <p:par>
                                <p:cTn id="4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1000"/>
                            </p:stCondLst>
                            <p:childTnLst>
                              <p:par>
                                <p:cTn id="4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2000"/>
                            </p:stCondLst>
                            <p:childTnLst>
                              <p:par>
                                <p:cTn id="4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3500"/>
                            </p:stCondLst>
                            <p:childTnLst>
                              <p:par>
                                <p:cTn id="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4000"/>
                            </p:stCondLst>
                            <p:childTnLst>
                              <p:par>
                                <p:cTn id="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5500"/>
                            </p:stCondLst>
                            <p:childTnLst>
                              <p:par>
                                <p:cTn id="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6000"/>
                            </p:stCondLst>
                            <p:childTnLst>
                              <p:par>
                                <p:cTn id="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6500"/>
                            </p:stCondLst>
                            <p:childTnLst>
                              <p:par>
                                <p:cTn id="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7000"/>
                            </p:stCondLst>
                            <p:childTnLst>
                              <p:par>
                                <p:cTn id="4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7500"/>
                            </p:stCondLst>
                            <p:childTnLst>
                              <p:par>
                                <p:cTn id="4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80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8500"/>
                            </p:stCondLst>
                            <p:childTnLst>
                              <p:par>
                                <p:cTn id="4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9000"/>
                            </p:stCondLst>
                            <p:childTnLst>
                              <p:par>
                                <p:cTn id="4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95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500"/>
                            </p:stCondLst>
                            <p:childTnLst>
                              <p:par>
                                <p:cTn id="5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100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1500"/>
                            </p:stCondLst>
                            <p:childTnLst>
                              <p:par>
                                <p:cTn id="5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2500"/>
                            </p:stCondLst>
                            <p:childTnLst>
                              <p:par>
                                <p:cTn id="5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8920" y="2060640"/>
            <a:ext cx="6629400" cy="191628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e de Gestión Comisión Ejecutiva RedVIT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Junio 2006 – Mayo 2007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MISIÓN EJECU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07120" y="1843560"/>
            <a:ext cx="39250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r. Guillermo Lombera (UN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g. Eduardo Matozo (UN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c. Ricardo Castro (UNL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g. Ricardo Merlo (UN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r. Gustavo Kent (UNCu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eof. Jeómino Ainchil (UNL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g. Fabián  Cadelli (UNdeC)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04000" y="4581000"/>
            <a:ext cx="660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Coordinador de la Red</a:t>
            </a:r>
            <a:r>
              <a:rPr b="1" lang="es-ES" sz="1800" spc="-1" strike="noStrike">
                <a:solidFill>
                  <a:srgbClr val="ccff99"/>
                </a:solidFill>
                <a:latin typeface="Arial"/>
                <a:ea typeface="Times New Roman"/>
              </a:rPr>
              <a:t>: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Dr. Guillermo Lombera (UN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Secretaría Técnica Estable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(SPU): Lic. Leticia Igles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Arial"/>
                <a:ea typeface="Times New Roman"/>
              </a:rPr>
              <a:t>Representante de la Red por la SECy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Ing. Oscar Galant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EUNIONES PLENARIAS Y DE 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3400" y="1446120"/>
            <a:ext cx="8093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X Reunión de CE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enos Aires  Junio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XI Reunión de CE,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enos Aires  Julio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XII Reunión de CE,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enos Aires  Agosto de 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XIII Reunión de CE,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nta Fé Septiembre de 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XIV Reunión de CE,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enos Aires  Octu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xta Reunión Plenaria RedVITE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lta, Noviem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XV Reunión CE,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enos Aires Diciem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XVI Reunión CE,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r del Plata, Febrero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XVII Reunión CE,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enos Aires Marzo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XVIII Reunión CE,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enos Aires, Mayo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éptima Reunión Plenaria RedVITE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orrientes, Mayo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Actividades desarrolladas </a:t>
            </a:r>
            <a:br>
              <a:rPr sz="36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en el perío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stión Institu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unión Plenaria del 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Tahoma"/>
              </a:rPr>
              <a:t>Convocatorias de proyectos S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Participación en otras re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d Tecnológica Argentina (RTA)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ILAB - I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d OT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Actividades desarrolladas </a:t>
            </a:r>
            <a:br>
              <a:rPr sz="36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en el perío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9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cuentros de Vinculación Tecnológ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-528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Generación de Capacidades en Gestore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Universidad Nacional de Tucumán. Septiembre d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-528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 Jornadas Relación Universidad Entorno Socio productivo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Universidad Nacional de Salta. Noviembre d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-528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Taller Plenario“RedVITEC:“Perspectivas y prospectivas a tres años de su creació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Universidad Nacional de Salta, Noviembre de 2006</a:t>
            </a: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-528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vinculación Tecnológica en las Universidades 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Universidad Nacional de Mar del Plata, Febrero 2007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-528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Taller Regional Teórico-práctico de capacitación en propiedad Intelectual y pa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Universidad Nacional de Mar del Plata, Abril d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99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148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ACTIVIDADES DESARROLLADAS POR LA 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Actividades desarrolladas </a:t>
            </a:r>
            <a:br>
              <a:rPr sz="36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en el perío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o de Indicadores de Vinculación y Transfer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Oferta Tecn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Portal de la RedVI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I Jornadas Universidad Entorno Socio productivo –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Taller Plenario RedVITEC: “Perspectivas  y prospectivas a tres años de su creació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rategia comunic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ERCOSUR Educativo, “La Vinculación de la Universidad con el Sector Productivo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53341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 de Vinculación Tecnológica de las Universidades 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69608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Relevamiento de normativas sobre Propiedad Intelectual en el ámbito de las Universidades 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334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iversidad Nacional de La P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47640" y="389520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Unidad Ejecu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Universidad Nacional de Entre Rí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unerefecto1" descr=""/>
          <p:cNvPicPr/>
          <p:nvPr/>
        </p:nvPicPr>
        <p:blipFill>
          <a:blip r:embed="rId3"/>
          <a:stretch/>
        </p:blipFill>
        <p:spPr>
          <a:xfrm>
            <a:off x="3780000" y="2997360"/>
            <a:ext cx="1295280" cy="79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6394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ficina de Vinculación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ffff"/>
                </a:solidFill>
                <a:latin typeface="Arial"/>
              </a:rPr>
              <a:t>Sec. de Extensión Universitaria y Cul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ffff"/>
                </a:solidFill>
                <a:latin typeface="Arial"/>
              </a:rPr>
              <a:t>Sec. de Investigaciones, Científicas, Tecnológicas y de Formación de RRH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360" y="838080"/>
            <a:ext cx="70340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6e6a2"/>
                </a:solidFill>
                <a:latin typeface="Tahoma"/>
              </a:rPr>
              <a:t>“</a:t>
            </a:r>
            <a:r>
              <a:rPr b="1" lang="es-AR" sz="2800" spc="-1" strike="noStrike">
                <a:solidFill>
                  <a:srgbClr val="e6e6a2"/>
                </a:solidFill>
                <a:latin typeface="Tahoma"/>
              </a:rPr>
              <a:t>Relevamiento y Análisis Compar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6e6a2"/>
                </a:solidFill>
                <a:latin typeface="Tahoma"/>
              </a:rPr>
              <a:t>de las Normativas de Servic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6e6a2"/>
                </a:solidFill>
                <a:latin typeface="Tahoma"/>
              </a:rPr>
              <a:t>Tecnológicos a Terceros de las UUN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1879560"/>
          <a:ext cx="9144000" cy="455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95280" y="1916280"/>
          <a:ext cx="8244000" cy="155700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644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realizó un relevamiento y recopilación de distintos </a:t>
                      </a:r>
                      <a:r>
                        <a:rPr b="0" lang="es-ES_tradnl" sz="16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instrumentos de promoción y fomento para la vinculación Universidad – Sector Social y Productivo</a:t>
                      </a: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con el objetivo de proporcionar información actualizada y sistematizada sobre distintas líneas de promoción y financiamiento a nivel nacional y dar referencias sobre organismos relacionados con la ciencia y la tecnologí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116000" y="3716280"/>
          <a:ext cx="2808000" cy="395280"/>
        </p:xfrm>
        <a:graphic>
          <a:graphicData uri="http://schemas.openxmlformats.org/drawingml/2006/table">
            <a:tbl>
              <a:tblPr/>
              <a:tblGrid>
                <a:gridCol w="280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ocumentos</a:t>
                      </a:r>
                      <a:r>
                        <a:rPr b="0" lang="en-US" sz="7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942840" y="4147560"/>
            <a:ext cx="778356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rincipales Líneas de Promoción y Financiamiento a Nivel Nacional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</a:rPr>
              <a:t>965 Kbytes.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Referencias en Cooperación y Financiamiento Internacional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</a:rPr>
              <a:t>292 Kbytes.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rincipales Organismos Nacionales relacionados a la Ciencia y la Tecnología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</a:rPr>
              <a:t>151 Kbytes.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Organismos de Ciencia y Tecnología de otros países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</a:rPr>
              <a:t>176 Kbytes.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  <a:ea typeface="Arial"/>
              </a:rPr>
              <a:t>Instrumentos de Promoción y Fomento para la Vinculación Universidad – Sector Socio-Productiv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ecretaría de Políticas Universi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81080"/>
            <a:ext cx="769608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ROTOCOLO PARA LA EJECUCIÓN DE SERVICIOS A TERC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733920"/>
            <a:ext cx="453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Universidad Nacional del Lit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981080"/>
            <a:ext cx="769608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PROGRAMA DE CAPACITACIÓN EN VINCULACIÓN TECN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733920"/>
            <a:ext cx="453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Universidad Nacional del Comah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54100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 de Vinculación Tecnológica de las Universidades 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4842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Armonización de l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Oferta Tecnológ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37893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IVERSIDAD NACIONAL DE LA PL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81080"/>
            <a:ext cx="769608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Desarrollo de Indicadores en Vinculación Tecn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334120"/>
            <a:ext cx="45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iversidad Nacional de Chile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4:42:47Z</dcterms:created>
  <dc:creator>JonMMx 2000</dc:creator>
  <dc:description/>
  <dc:language>en-US</dc:language>
  <cp:lastModifiedBy> </cp:lastModifiedBy>
  <dcterms:modified xsi:type="dcterms:W3CDTF">2007-05-17T17:35:25Z</dcterms:modified>
  <cp:revision>384</cp:revision>
  <dc:subject/>
  <dc:title>Sin título de diapositiva</dc:title>
</cp:coreProperties>
</file>